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F71-23BB-4CEA-8629-45F97896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747-1756-4DDC-830E-FB42EAA9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9D4-6BCA-45E6-B15D-76C4709B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0F1-7604-4806-BAD9-9CD7B78E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110-2079-4924-BAD8-9B3FC619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B5E-38AF-4E15-B4F2-F9979AA0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BA4-94D4-467F-BA6B-6E67233B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0A4-66A0-451E-B3B6-46E9BD14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9C9-8691-4142-A7AC-660EF1E1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8B8-CABC-476C-8CDB-0561355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C3C-91A5-406F-83DC-326553DE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135-FE5E-4022-80B8-9D1CD472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6C0A-A408-4405-A63E-5190E7EA4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Mapping for the Common Core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. Nesi – I.S. 2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ibrary Spring C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y 18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piph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formity of curriculum will not necessarily equal CCS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 Merging:  As long as we wan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iformity and CCS, why not address both issues at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urriculum mapping si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ommoncore.org/maps/index.php/maps/grade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ay not have to completely re-invent the wheel after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, Turn and Talk Di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all that apply on the Think Turn &amp; Talk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o provide brief explanations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a neighbor and talk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 and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ed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 Activities and 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la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Explor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 lists for the units/FAM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ders of printable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eetings per week to hammer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work on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unit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do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book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general plan for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next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the year after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ease take a few moments to evaluate this workshop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is Sounds Oddly Familiar…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Finding the Overlap Between CCS and IF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complete the Do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CS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C Phases &amp; Indic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mmon Core Standar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Ostrich.bmp"/>
          <p:cNvPicPr/>
          <p:nvPr/>
        </p:nvPicPr>
        <p:blipFill>
          <a:blip r:embed="rId1"/>
          <a:stretch/>
        </p:blipFill>
        <p:spPr>
          <a:xfrm>
            <a:off x="2127240" y="1974960"/>
            <a:ext cx="4968720" cy="40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 First … Mostly Fear &amp; Den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9-2010 –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ELA curriculum mapping for unifor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 2010 CCS work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w grab materials re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ve got until 2014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n … The Realiz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dering and “dumping” of materials would not be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tent of the paradigm sh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work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llowed by Pa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panic-woman-face.jpg"/>
          <p:cNvPicPr/>
          <p:nvPr/>
        </p:nvPicPr>
        <p:blipFill>
          <a:blip r:embed="rId1"/>
          <a:stretch/>
        </p:blipFill>
        <p:spPr>
          <a:xfrm>
            <a:off x="2736720" y="1743120"/>
            <a:ext cx="3749760" cy="42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Then More Common Core Workshops and Den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2 ostriches.jpg"/>
          <p:cNvPicPr/>
          <p:nvPr/>
        </p:nvPicPr>
        <p:blipFill>
          <a:blip r:embed="rId1"/>
          <a:stretch/>
        </p:blipFill>
        <p:spPr>
          <a:xfrm>
            <a:off x="2432160" y="1743120"/>
            <a:ext cx="4286160" cy="41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all Saturday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“task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’ve known this all a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ing the task is not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” tasks should inform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ELA Work Begi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CCS still off in the distance, we work hard to make some misste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 teacher meetings to verbalize and plan to address dissatisf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ELA Surv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ment of Resources Used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2:33:33Z</dcterms:created>
  <dc:creator>NYCDOE</dc:creator>
  <dc:description/>
  <dc:language>en-US</dc:language>
  <cp:lastModifiedBy>NYCDOE</cp:lastModifiedBy>
  <dcterms:modified xsi:type="dcterms:W3CDTF">2011-05-21T11:41:05Z</dcterms:modified>
  <cp:revision>98</cp:revision>
  <dc:subject/>
  <dc:title>Curriculum Mapping for the Common Core Standards</dc:title>
</cp:coreProperties>
</file>